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9"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60033"/>
                </a:solidFill>
                <a:latin typeface="Times New Roman"/>
              </a:rPr>
              <a:t>Click to move the slide</a:t>
            </a:r>
            <a:endParaRPr b="0" lang="en-US" sz="4200" spc="-1" strike="noStrike">
              <a:solidFill>
                <a:srgbClr val="660033"/>
              </a:solidFill>
              <a:latin typeface="Times New Roman"/>
            </a:endParaRPr>
          </a:p>
        </p:txBody>
      </p:sp>
      <p:sp>
        <p:nvSpPr>
          <p:cNvPr id="10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2"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3"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F57DF-1BB1-4786-B33D-0FE6B76DCAC5}"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Σε ένα πλειοψηφιοκρατικό κοινοβούλιο (debating legislature), όπως η βρετανική Βουλή των Κοινοτήτων, η κύρια δραστηριότητα είναι ο κοινοβουλευτικός διάλογος στην ολομέλεια. Εκεί εξετάζονται τα μείζονα ζητήματα και τα κόμματα κερδίζουν ή χάνουν έδαφος.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83"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408E5-CF1E-4D10-B934-DBE544632A1F}"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Αντίθετα, σε ένα διαβουλευτικό κοινοβούλιο (committee-based legislature), όπως το αμερικανικό Κογκρέσο, η περισσότερη δουλειά γίνεται σε επίπεδο επιτροπών. Εκεί τα μέλη τους ασχολούνται με την εξειδικευμένη μετατροπή των νομοσχεδίων σε νόμους, διενεργούν ακροάσεις και ελέγχουν την εκτελεστική εξουσία.</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86"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83EC7-DCA8-4FA5-BF41-206FAB3CAFB7}"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Παρότι η διαδικασία ψήφισης των νομοσχεδίων διαφέρει, όπως είναι λογικό, από χώρα σε χώρα, το Σχήμα 15.2 δίνει ένα γενικό περίγραμμα.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a:t>
            </a:r>
            <a:r>
              <a:rPr b="0" lang="el-GR" sz="1200" spc="-1" strike="noStrike">
                <a:solidFill>
                  <a:srgbClr val="000000"/>
                </a:solidFill>
                <a:latin typeface="Arial"/>
              </a:rPr>
              <a:t>Η διαδικασία είναι καθαρά διαβουλευτική, καθώς περιλαμβάνει διαδοχικά στάδια συζήτησης και διαλόγου, προχωρώντας από την ολομέλεια στις επιτροπές, για να επιστρέψει εν τέλει ξανά στην ολομέλεια.</a:t>
            </a:r>
            <a:endParaRPr b="0" lang="en-US" sz="1200" spc="-1" strike="noStrike">
              <a:solidFill>
                <a:srgbClr val="000000"/>
              </a:solidFill>
              <a:latin typeface="Arial"/>
            </a:endParaRPr>
          </a:p>
        </p:txBody>
      </p:sp>
      <p:sp>
        <p:nvSpPr>
          <p:cNvPr id="189"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2B2B7-80B3-497C-B128-B8230336AAC6}"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 </a:t>
            </a:r>
            <a:r>
              <a:rPr b="0" lang="el-GR" sz="800" spc="-1" strike="noStrike">
                <a:solidFill>
                  <a:srgbClr val="000000"/>
                </a:solidFill>
                <a:latin typeface="Arial"/>
              </a:rPr>
              <a:t>Ανακλητός προϋπολογισμός (reversionary budget) είναι ο προϋπολογισμός (κατά κανόνα περασμένου έτους) που τίθεται σε ισχύ εάν το νομοθετικό σώμα δεν ψηφίσει εγκαίρως νέο προϋπολογισμό.</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92"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0C34A-0F2B-42FA-AFEE-963A44347EAA}"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α σύγχρονα κοινοβούλια διαθέτουν τρία βασικά μέσα ελέγχου της εκτελεστικής εξουσίας: κατ' αρχάς, τις ερωτήσεις και επερωτήσεις, κατά δεύτερον, τη σύγκληση έκτακτων συνεδριάσεων της Βουλής και την πρόταση δυσπιστίας, και κατά τρίτον, τις εξεταστικές των πραγμάτων επιτροπές. </a:t>
            </a:r>
            <a:endParaRPr b="0" lang="en-US" sz="1200" spc="-1" strike="noStrike">
              <a:solidFill>
                <a:srgbClr val="000000"/>
              </a:solidFill>
              <a:latin typeface="Arial"/>
            </a:endParaRPr>
          </a:p>
        </p:txBody>
      </p:sp>
      <p:sp>
        <p:nvSpPr>
          <p:cNvPr id="195"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D2B41-12DF-4817-9634-6114427E49F1}"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Οι ερωτήσεις (questions) απευθύνουν συγκεκριμένα ερωτήματα στους καθ' ύλην αρμόδιους υπουργούς. </a:t>
            </a: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 </a:t>
            </a:r>
            <a:r>
              <a:rPr b="0" lang="el-GR" sz="800" spc="-1" strike="noStrike">
                <a:solidFill>
                  <a:srgbClr val="000000"/>
                </a:solidFill>
                <a:latin typeface="Arial"/>
              </a:rPr>
              <a:t>Η επερώτηση (interpellation) είναι μορφή ερώτησης την οποία απευθύνει η αντιπολίτευση στην κυβέρνηση. Ακολουθεί κοινοβουλευτικός διάλογος και στη συνέχεια ψηφοφορία μεταξύ των βουλευτών, οι οποίοι αποφασίζουν για το κατά πόσο το κοινοβούλιο έμεινε ικανοποιημένο από τις απαντήσεις που δόθηκαν.</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98"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CE49D-B7D6-4A61-A491-B9964264432F}"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ι επιτροπές των κοινοβουλίων είναι μικρές ομάδες εργασίας στις οποίες συμμετέχουν βουλευτές.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a:t>
            </a:r>
            <a:r>
              <a:rPr b="0" lang="el-GR" sz="1200" spc="-1" strike="noStrike">
                <a:solidFill>
                  <a:srgbClr val="000000"/>
                </a:solidFill>
                <a:latin typeface="Arial"/>
              </a:rPr>
              <a:t>Συγκροτούνται κατά κανόνα από τη μεγαλύτερη και πιο πολυάσχολη Κάτω Βουλή, προκειμένου να αντιμετωπιστεί ο υπερβολικός φόρτος εργασίας. Οι ομάδες εργασίας παραδοσιακά παίρνουν τη μορφή νομοπαρασκευαστικών επιτροπών, διακομματικών εξεταστικών των πραγμάτων επιτροπών ή επιτροπών συνεννόησης ή μεσολάβησης </a:t>
            </a:r>
            <a:endParaRPr b="0" lang="en-US" sz="1200" spc="-1" strike="noStrike">
              <a:solidFill>
                <a:srgbClr val="000000"/>
              </a:solidFill>
              <a:latin typeface="Arial"/>
            </a:endParaRPr>
          </a:p>
        </p:txBody>
      </p:sp>
      <p:sp>
        <p:nvSpPr>
          <p:cNvPr id="201"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67FB6-64BF-4FF9-BBBB-8A8A2283214B}"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ύμφωνα με τη διάσημη διάκριση που έκανε ο Weber (1918), οι πολιτικοί καριέρας (professional politicians) ζουν από, και όχι μόνο για, την πολιτική. Πρόκειται για ανθρώπους που βλέπουν την πολιτική ως πλήρη απασχόληση και προσδοκούν από αυτήν εισόδημα, υποστήριξη, ιεραρχική ανέλιξη και συνταξιοδότηση. </a:t>
            </a:r>
            <a:endParaRPr b="0" lang="en-US" sz="1200" spc="-1" strike="noStrike">
              <a:solidFill>
                <a:srgbClr val="000000"/>
              </a:solidFill>
              <a:latin typeface="Arial"/>
            </a:endParaRPr>
          </a:p>
        </p:txBody>
      </p:sp>
      <p:sp>
        <p:nvSpPr>
          <p:cNvPr id="204"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78E5E-90C8-4E14-97A4-F0FA0B58F76A}"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Καμιά φορά λέγεται ότι οι πολιτικοί καριέρας σχηματίζουν μια πολιτική τάξη (political class), όρος που υποδηλώνει την ύπαρξη μιας ομάδας που διαθέτει και συχνά ενεργεί με βάση κοινά συμφέροντα.</a:t>
            </a:r>
            <a:endParaRPr b="0" lang="en-US" sz="1200" spc="-1" strike="noStrike">
              <a:solidFill>
                <a:srgbClr val="000000"/>
              </a:solidFill>
              <a:latin typeface="Arial"/>
            </a:endParaRPr>
          </a:p>
        </p:txBody>
      </p:sp>
      <p:sp>
        <p:nvSpPr>
          <p:cNvPr id="207"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EB893-A758-4CFC-B6BB-0D5A328031AE}"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Το πλεονέκτημα του κατέχοντος το αξίωμα (incumbency effect) αναφέρεται στο εκλογικό πλεονέκτημα που αποκτούν τα νυν μέλη ενός κοινοβουλίου όταν είναι ξανά υποψήφια. Στις ΗΠΑ, όπου το φαινόμενο αυτό είναι ιδιαίτερα έντονο, ως χηρεύουσα έδρα (open seat) ορίζεται η έδρα τής οποίας ο κάτοχος έχει αποσυρθεί, με αποτέλεσμα η εκλογική μάχη να γίνεται σε μεγαλύτερο βαθμό επί ίσοις όροις.</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10"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33CF7-4634-4B72-9535-AD8C84408E2C}"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 </a:t>
            </a:r>
            <a:r>
              <a:rPr b="0" lang="el-GR" sz="800" spc="-1" strike="noStrike">
                <a:solidFill>
                  <a:srgbClr val="000000"/>
                </a:solidFill>
                <a:latin typeface="Arial"/>
              </a:rPr>
              <a:t>Νομοθετικό σώμα (legislature) είναι ένα πολυμελές αντιπροσωπευτικό όργανο, το οποίο διαβουλεύεται επί των δημόσιων ζητημάτων και καταλήγει σε δεσμευτικές δημόσιες πολιτικές αποφάσεις για λογαριασμό μιας πολιτικής κοινότητας που υπερβαίνει την εκτελεστική εξουσία (Norton, 1990, σ. 1). </a:t>
            </a: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 </a:t>
            </a:r>
            <a:r>
              <a:rPr b="0" lang="el-GR" sz="800" spc="-1" strike="noStrike">
                <a:solidFill>
                  <a:srgbClr val="000000"/>
                </a:solidFill>
                <a:latin typeface="Arial"/>
              </a:rPr>
              <a:t>Οι όροι που χρησιμοποιούνται για την ονομασία αυτών των σωμάτων αντανακλούν τις διαφορετικές ιστορικές τους καταβολές: οι συνελεύσεις συνέρχονται, οι σύνοδοι (Κογκρέσο) συνεδριάζουν, τα κοινοβούλια βουλεύονται και τα νομοθετικά σώματα θέτουν τους νόμους. Οι όροι αυτοί χρησιμοποιούνται εναλλάξιμα.</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59"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C478E-1FAE-48D0-A0B9-0D96D6D740C8}"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Τα όρια θητείας (term limits) επιβάλλουν στους εκλεγμένους πολιτικούς συγκεκριμένο αριθμό θητειών που μπορούν να υπηρετήσουν ή  απαγορεύουν την επανεκλογή τους εάν δεν έχει μεσολαβήσει μια περίοδος. Επιβάλλουν την ανανέωση των σωμάτων με τίμημα τον μειωμένο επαγγελματισμό.</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13"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0F629-2E2D-4728-8D56-27C3E56CC268}"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Οι διασημότητες που πέρασαν στην πολιτική (celebrities-turned-politicians) εκμεταλλεύονται τη φήμη που απέκτησαν σε άλλους τομείς δραστηριότητας εκτός πολιτικής, για να διευκολύνουν το πέρασμά τους σε πολιτικά αξιώματα και βουλευτικές έδρες.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16"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11960-0C95-428D-AEFF-95D43B149502}"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Η ομάδα αυτή διαφοροποιείται από τους πολιτικούς ως διασημότητες (politicians-as-celebrities), οι οποίοι προβάλλονται στους ψηφοφόρους σαν διάσημοι σταρ του θεάτρου ή του κινηματογράφου.</a:t>
            </a:r>
            <a:endParaRPr b="0" lang="en-US" sz="800" spc="-1" strike="noStrike">
              <a:solidFill>
                <a:srgbClr val="000000"/>
              </a:solidFill>
              <a:latin typeface="Arial"/>
            </a:endParaRPr>
          </a:p>
        </p:txBody>
      </p:sp>
      <p:sp>
        <p:nvSpPr>
          <p:cNvPr id="219"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759D6-8237-4E14-AD82-417BE2BA6411}"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Από τη στιγμή που τα κοινοβούλια αποτελούν σύμβολα της λαϊκής κυριαρχίας, ο ρόλος τους στα απολυταρχικά καθεστώτα είναι εξ ορισμού περιορισμένος. Τα κοινοβούλια στις μη δημοκρατικές χώρες λειτουργούν συνήθως ως σκιώδεις θεσμοί. Οι συνεδρίες τους είναι σύντομες και ορισμένα μέλη διορίζονται απευθείας από την κυβέρνηση.</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α μέλη τους ασχολούνται αποκλειστικά με τη διατύπωση αιτημάτων, με την προώθηση των συμφερόντων της περιφέρειάς τους και ενίοτε με τον προσωπικό τους πλουτισμό.</a:t>
            </a:r>
            <a:endParaRPr b="0" lang="en-US" sz="1200" spc="-1" strike="noStrike">
              <a:solidFill>
                <a:srgbClr val="000000"/>
              </a:solidFill>
              <a:latin typeface="Arial"/>
            </a:endParaRPr>
          </a:p>
        </p:txBody>
      </p:sp>
      <p:sp>
        <p:nvSpPr>
          <p:cNvPr id="222"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CA153-D442-4B74-A1F1-FC0EEA39111E}"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Με την εξαίρεση ελάχιστων παραδοσιακών και δικτατορικών καθεστώτων, τα περισσότερα απολυταρχικά καθεστώτα διαθέτουν κάποιου είδους κοινοβούλιο. Γιατί, λοιπόν, οι μη δημοκρατικοι ηγέτες μπαίνουν στον κόπο να ασχοληθούν με τα κοινοβούλια;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a:t>
            </a:r>
            <a:r>
              <a:rPr b="0" lang="el-GR" sz="1200" spc="-1" strike="noStrike">
                <a:solidFill>
                  <a:srgbClr val="000000"/>
                </a:solidFill>
                <a:latin typeface="Arial"/>
              </a:rPr>
              <a:t>Η αξία τους έχει τέσσερις διαστάσεις:</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ο κοινοβούλιο προσφέρει φύλλο συκής στην εσωτερική και διεθνή νομιμοποίηση του καθεστώτος.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a:t>
            </a:r>
            <a:r>
              <a:rPr b="0" lang="el-GR" sz="1200" spc="-1" strike="noStrike">
                <a:solidFill>
                  <a:srgbClr val="000000"/>
                </a:solidFill>
                <a:latin typeface="Arial"/>
              </a:rPr>
              <a:t>Το κοινοβούλιο μπορεί να χρησιμεύσει για την ένταξη μετριοπαθών αντιφρονούντων στο σύστημα του καθεστώτος, προσφέροντας πεδίο διαβούλευσης πάνω σε ζητήματα που δεν απειλούν τα καίρια συμφέροντα της άρχουσας τάξης.</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a:t>
            </a:r>
            <a:r>
              <a:rPr b="0" lang="el-GR" sz="1200" spc="-1" strike="noStrike">
                <a:solidFill>
                  <a:srgbClr val="000000"/>
                </a:solidFill>
                <a:latin typeface="Arial"/>
              </a:rPr>
              <a:t>Η δυνατότητα διατύπωσης των αιτημάτων και των παραπόνων των περιφερειών, και η άσκηση πιέσεων για την ικανοποίηση τοπικών συμφερόντων, εξασφαλίζει ένα μέτρο ενσωμάτωσης κέντρου και περιφέρειας, κράτους και κοινωνίας.</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a:t>
            </a:r>
            <a:r>
              <a:rPr b="0" lang="el-GR" sz="1200" spc="-1" strike="noStrike">
                <a:solidFill>
                  <a:srgbClr val="000000"/>
                </a:solidFill>
                <a:latin typeface="Arial"/>
              </a:rPr>
              <a:t>Τα κοινοβούλια μπορούν να λειτουργήσουν ως χρήσιμη πηγή άντλησης στελεχών για την πολιτική ελίτ.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E9555-8DBC-41DF-9319-BBC1FA926DDA}"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a:t>
            </a:r>
            <a:r>
              <a:rPr b="0" lang="el-GR" sz="1200" spc="-1" strike="noStrike">
                <a:solidFill>
                  <a:srgbClr val="000000"/>
                </a:solidFill>
                <a:latin typeface="Arial"/>
              </a:rPr>
              <a:t>Η ύπαρξη κοινοβουλίου αποτελεί θεμελιώδες γνώρισμα μιας δημοκρατίας είτε φιλελεύθερης είτε ανελεύθερης. Έτσι, τα νομοθετικά σώματα αποτελούν στοιχείο της θεσμικής διευθέτησης και στις ανελεύθερες δημοκρατίες.</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a:t>
            </a:r>
            <a:r>
              <a:rPr b="0" lang="el-GR" sz="1200" spc="-1" strike="noStrike">
                <a:solidFill>
                  <a:srgbClr val="000000"/>
                </a:solidFill>
                <a:latin typeface="Arial"/>
              </a:rPr>
              <a:t>Επιπλέον, η πολιτική τους θέση μπορεί να είναι σημαντική σε τομείς που δεν απειλούν την προεδρική ηγεσία: για παράδειγμα, στην εκπροσώπηση τοπικών περιφερειών και στην ψήφιση ήσσονος σημασίας νόμων.</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a:t>
            </a:r>
            <a:r>
              <a:rPr b="0" lang="el-GR" sz="1200" spc="-1" strike="noStrike">
                <a:solidFill>
                  <a:srgbClr val="000000"/>
                </a:solidFill>
                <a:latin typeface="Arial"/>
              </a:rPr>
              <a:t>Ωστόσο, τα κοινοβούλια αυτά λειτουργούν στη σκιά της εκτελεστικής εξουσίας.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a:t>
            </a:r>
            <a:r>
              <a:rPr b="0" lang="el-GR" sz="1200" spc="-1" strike="noStrike">
                <a:solidFill>
                  <a:srgbClr val="000000"/>
                </a:solidFill>
                <a:latin typeface="Arial"/>
              </a:rPr>
              <a:t>Το πολιτικό περιβάλλον σε μια ανελεύθερη δημοκρατία είναι ιδιαίτερα εχθρικό απέναντι στην ιδέα ότι τα κοινοβούλια υποχρεώνουν σε λογοδοσία την κυβέρνηση, ασκώντας εξονυχιστικό έλεγχο στη δράση της.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a:t>
            </a:r>
            <a:r>
              <a:rPr b="0" lang="el-GR" sz="1200" spc="-1" strike="noStrike">
                <a:solidFill>
                  <a:srgbClr val="000000"/>
                </a:solidFill>
                <a:latin typeface="Arial"/>
              </a:rPr>
              <a:t>Επιπλέον, πολλές ανελεύθερες δημοκρατίες είναι είτε νεοπαγείς είτε σχετικά φτωχές. Και οι δύο αυτοί παράγοντες υποσκάπτουν την εδραίωση ενός επαγγελματικού κοινοβουλίου με σταθερή σύνθεση, εκτεταμένη ερευνητική υποστήριξη και καλά αναπτυγμένο σύστημα επιτροπών.</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8"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7F773-003B-44E9-8BEB-E80170A4D2AC}"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Μόνο δύο πράγματα, γράφει ο Blondel (1973), μπορούν να ειπωθούν με βεβαιότητα για κάθε κοινοβούλιο: ο αριθμός των μελών και ο αριθμός των σωμάτων του. Και τα δύο αποτελούν σημαντικές πτυχές της κοινοβουλευτικής δομής.</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ο μέγεθος ενός κοινοβουλίου, δηλαδή ο αριθμός των αντιπροσώπων που συγκροτούν την Κάτω Βουλή, η οποία έχει και τις μεγαλύτερες εξουσίες (εφόσον υπάρχει), έχει άμεση σχέση με τον πληθυσμό της χώρας (Σχήμα 15.1).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2"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B64D3-290D-4C7A-B414-E35ECA0A6B5B}"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Παρότι ορισμένα ευρωπαϊκά κοινοβούλια διέθεταν αρχικά πολλά νομοθετικά σώματα, ένα για καθεμία από τις κατεστημένες τάξεις, σήμερα έχουν ένα νομοθετικό σώμα (unicameral) ή δύο νομοθετικά σώματα (bicameral). </a:t>
            </a: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 </a:t>
            </a:r>
            <a:r>
              <a:rPr b="0" lang="el-GR" sz="800" spc="-1" strike="noStrike">
                <a:solidFill>
                  <a:srgbClr val="000000"/>
                </a:solidFill>
                <a:latin typeface="Arial"/>
              </a:rPr>
              <a:t>Στα κοινοβούλια με δύο νομοθετικά σώματα, η πρώτη ή Κάτω Βουλή ονομάζεται συνήθως «συνέλευση των αντιπροσώπων», «εθνική συνέλευση» ή «κοινοβούλιο». Η δεύτερη ή Άνω Βουλή ονομάζεται κατά κανόνα «Γερουσία».</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65"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93532-6904-4BD3-B5AE-643EB471AF19}"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 </a:t>
            </a:r>
            <a:r>
              <a:rPr b="0" lang="el-GR" sz="800" spc="-1" strike="noStrike">
                <a:solidFill>
                  <a:srgbClr val="000000"/>
                </a:solidFill>
                <a:latin typeface="Arial"/>
              </a:rPr>
              <a:t>Σε ένα σύστημα ασθενούς κοινοβουλίου με δύο νομοθετικά σώματα (weak bicameralism) η Κάτω Βουλή είναι πολύ ισχυρότερη από την Άνω Βουλή, και αποτελεί το κυρίως σώμα προς το οποίο λογοδοτεί η κυβέρνηση. Συναντάται κατά κανόνα στα κοινοβουλευτικά συστήματα. </a:t>
            </a:r>
            <a:endParaRPr b="0" lang="en-US" sz="800" spc="-1" strike="noStrike">
              <a:solidFill>
                <a:srgbClr val="000000"/>
              </a:solidFill>
              <a:latin typeface="Arial"/>
            </a:endParaRPr>
          </a:p>
        </p:txBody>
      </p:sp>
      <p:sp>
        <p:nvSpPr>
          <p:cNvPr id="168"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4A8F8-5379-4E12-ACB9-917657AEBD72}"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Σε ένα σύστημα ισχυρού κοινοβουλίου με δύο νομοθετικά σώματα (strong bicameralism), το οποίο συναντάμε σε μικρό αριθμό ομοσπονδιών που εφαρμόζουν το προεδρικό σύστημα, οι εξουσίες των δύο σωμάτων είναι πιο εξισορροπημένες.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71"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CFCB2-91B7-45EF-83AC-A002BB6969AA}"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a:t>
            </a:r>
            <a:r>
              <a:rPr b="0" lang="el-GR" sz="1200" spc="-1" strike="noStrike">
                <a:solidFill>
                  <a:srgbClr val="000000"/>
                </a:solidFill>
                <a:latin typeface="Arial"/>
              </a:rPr>
              <a:t>Τρεις είναι οι βασικοί τρόποι εκλογής της δεύτερης Βουλής:</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a:t>
            </a:r>
            <a:r>
              <a:rPr b="0" lang="el-GR" sz="1200" spc="-1" strike="noStrike">
                <a:solidFill>
                  <a:srgbClr val="000000"/>
                </a:solidFill>
                <a:latin typeface="Arial"/>
              </a:rPr>
              <a:t>Απευθείας εκλογή (χρησιμοποιείται για το 35% του συνόλου των εδρών της Άνω Βουλής).</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a:t>
            </a:r>
            <a:r>
              <a:rPr b="0" lang="el-GR" sz="1200" spc="-1" strike="noStrike">
                <a:solidFill>
                  <a:srgbClr val="000000"/>
                </a:solidFill>
                <a:latin typeface="Arial"/>
              </a:rPr>
              <a:t>Έμμεση εκλογή μέσω τοπικών ή περιφερειακών διοικήσεων (επίσης 35%).</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a:t>
            </a:r>
            <a:r>
              <a:rPr b="0" lang="el-GR" sz="1200" spc="-1" strike="noStrike">
                <a:solidFill>
                  <a:srgbClr val="000000"/>
                </a:solidFill>
                <a:latin typeface="Arial"/>
              </a:rPr>
              <a:t>Με διορισμό, συνήθως από την κυβέρνηση (27%).</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4"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48BB9-89D5-4AEC-8FC8-4CA91D082E9D}"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a:t>
            </a:r>
            <a:r>
              <a:rPr b="0" lang="el-GR" sz="1200" spc="-1" strike="noStrike">
                <a:solidFill>
                  <a:srgbClr val="000000"/>
                </a:solidFill>
                <a:latin typeface="Arial"/>
              </a:rPr>
              <a:t>Η ουσία των κοινοβουλίων είναι η αντιπροσώπευση. Ωστόσο, η διαβούλευση και η νομοθεσία είναι σχεδόν εξίσου σημαντικές λειτουργίες. Άλλες κρίσιμες λειτουργίες, που δεν είναι, όμως, κοινές σε όλα τα κοινοβούλια, αφορούν την έγκριση των δημόσιων δαπανών, το σχηματισμό των κυβερνήσεων και την άσκηση ελέγχου επί της εκτελεστικής εξουσίας </a:t>
            </a:r>
            <a:endParaRPr b="0" lang="en-US" sz="1200" spc="-1" strike="noStrike">
              <a:solidFill>
                <a:srgbClr val="000000"/>
              </a:solidFill>
              <a:latin typeface="Arial"/>
            </a:endParaRPr>
          </a:p>
        </p:txBody>
      </p:sp>
      <p:sp>
        <p:nvSpPr>
          <p:cNvPr id="177"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5C783-00D1-473F-8347-FF7B5888F00B}"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Οι κατοχυρωμένες έδρες (reserved seats) προορίζονται αποκλειστικά για υποψηφίους που προέρχονται από συγκεκριμένη ομάδα του πληθυσμού, κατά κανόνα κάποια μειονότητα ή τις γυναίκες. </a:t>
            </a: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 </a:t>
            </a:r>
            <a:r>
              <a:rPr b="0" lang="el-GR" sz="800" spc="-1" strike="noStrike">
                <a:solidFill>
                  <a:srgbClr val="000000"/>
                </a:solidFill>
                <a:latin typeface="Arial"/>
              </a:rPr>
              <a:t>Το πρώτο σύνταγμα του Πακιστάν (1956), για παράδειγμα, όριζε ότι το 3% των εδρών σε όλα τα κοινοβούλια προορίζεται αποκλειστικά για γυναίκες. Η τοποθέτηση γινόταν μέσω εκλογής μεταξύ αυτών που εξελέγησαν στις απλές έδρες. </a:t>
            </a: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 </a:t>
            </a:r>
            <a:r>
              <a:rPr b="0" lang="el-GR" sz="800" spc="-1" strike="noStrike">
                <a:solidFill>
                  <a:srgbClr val="000000"/>
                </a:solidFill>
                <a:latin typeface="Arial"/>
              </a:rPr>
              <a:t>Οι κατοχυρωμένες έδρες είναι διακριτός μηχανισμός από τις ποσοστώσεις, που αφορούν συνολικά το κοινοβούλιο ή τα επιμέρους κόμματα τα οποία εκπροσωπούνται σε αυτό.</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80"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B1ACA-8AD4-4CE6-B13A-AB31BF4C5420}"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0216DD-2131-4201-A4A5-938540DB44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82EFE7-9F6F-4114-A480-4E782D5CC1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D6F7F3-CEA8-4322-980F-A6F2075887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05511F-EB4C-413A-BC4C-AD85B2CD39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0AE1A3-81D0-4FE9-A1B2-730E9F2868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9E1CA5-83F6-47E2-8A73-75ADE2B011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358396-384F-4050-926C-8FFD2585EE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E51B82-3A5C-4A28-ADC4-572FE78B52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EED703-ABD0-4B64-85A7-A585FE0611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168194-01B7-49C3-A6D6-7ABC7C138A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D4D16B-978C-4984-9543-5EB5071E3A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FC72A7-080C-4B22-B839-BF11D044C7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D2B662-B0E9-40FD-BC6A-7DD758C4BF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E30299-4F33-487F-8E0E-533CFB5993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936AEA-2125-4D31-9E84-2CD432D874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40643A-D757-44F4-A7C2-39ED6B5B5F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7EECFB-2734-471A-ACE3-15C16305F5B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EBE905-F5A2-480D-81B1-FDD4E67F77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26C9D3-38CD-4B9B-9277-3DA99044EA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2B86A1-D993-4F09-9DEE-601495E13A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4AFD5F-7C7B-4C94-9B7B-8297F7471F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BE9091-C906-403F-BB17-6552D06774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F89691-7626-40FE-93B7-DB0769FD77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B4BCBE-88A3-4566-A5FD-6BA0360915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8686800" cy="4876920"/>
            <a:chOff x="0" y="0"/>
            <a:chExt cx="8686800" cy="4876920"/>
          </a:xfrm>
        </p:grpSpPr>
        <p:sp>
          <p:nvSpPr>
            <p:cNvPr id="1" name="Rectangle 3"/>
            <p:cNvSpPr/>
            <p:nvPr/>
          </p:nvSpPr>
          <p:spPr>
            <a:xfrm>
              <a:off x="0" y="0"/>
              <a:ext cx="609480" cy="4876920"/>
            </a:xfrm>
            <a:prstGeom prst="rect">
              <a:avLst/>
            </a:prstGeom>
            <a:solidFill>
              <a:srgbClr val="95a3d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Group 4"/>
            <p:cNvGrpSpPr/>
            <p:nvPr/>
          </p:nvGrpSpPr>
          <p:grpSpPr>
            <a:xfrm>
              <a:off x="380880" y="1417680"/>
              <a:ext cx="8305920" cy="182520"/>
              <a:chOff x="380880" y="1417680"/>
              <a:chExt cx="8305920" cy="182520"/>
            </a:xfrm>
          </p:grpSpPr>
          <p:sp>
            <p:nvSpPr>
              <p:cNvPr id="3" name="Rectangle 5"/>
              <p:cNvSpPr/>
              <p:nvPr/>
            </p:nvSpPr>
            <p:spPr>
              <a:xfrm>
                <a:off x="6858000" y="1417680"/>
                <a:ext cx="1828800" cy="1825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Line 6"/>
              <p:cNvSpPr/>
              <p:nvPr/>
            </p:nvSpPr>
            <p:spPr>
              <a:xfrm>
                <a:off x="380880" y="1494000"/>
                <a:ext cx="8305920" cy="0"/>
              </a:xfrm>
              <a:prstGeom prst="line">
                <a:avLst/>
              </a:prstGeom>
              <a:ln w="1908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60033"/>
                </a:solidFill>
                <a:latin typeface="Times New Roman"/>
              </a:rPr>
              <a:t>Click to edit the title text format</a:t>
            </a:r>
            <a:endParaRPr b="0" lang="en-US" sz="4200" spc="-1" strike="noStrike">
              <a:solidFill>
                <a:srgbClr val="66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cccc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95a3d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95a3d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6E411-E174-4E88-A904-656B107E5D2E}" type="slidenum">
              <a:rPr b="0" lang="el-GR"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Line 12"/>
          <p:cNvSpPr/>
          <p:nvPr/>
        </p:nvSpPr>
        <p:spPr>
          <a:xfrm>
            <a:off x="0" y="4876920"/>
            <a:ext cx="609480" cy="0"/>
          </a:xfrm>
          <a:prstGeom prst="line">
            <a:avLst/>
          </a:prstGeom>
          <a:ln w="4428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0" y="0"/>
            <a:ext cx="8763120" cy="5943600"/>
            <a:chOff x="0" y="0"/>
            <a:chExt cx="8763120" cy="5943600"/>
          </a:xfrm>
        </p:grpSpPr>
        <p:sp>
          <p:nvSpPr>
            <p:cNvPr id="48" name="Rectangle 3"/>
            <p:cNvSpPr/>
            <p:nvPr/>
          </p:nvSpPr>
          <p:spPr>
            <a:xfrm>
              <a:off x="0" y="0"/>
              <a:ext cx="1752480" cy="4876920"/>
            </a:xfrm>
            <a:prstGeom prst="rect">
              <a:avLst/>
            </a:prstGeom>
            <a:solidFill>
              <a:srgbClr val="95a3d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4"/>
            <p:cNvGrpSpPr/>
            <p:nvPr/>
          </p:nvGrpSpPr>
          <p:grpSpPr>
            <a:xfrm>
              <a:off x="0" y="3505320"/>
              <a:ext cx="8763120" cy="2438280"/>
              <a:chOff x="0" y="3505320"/>
              <a:chExt cx="8763120" cy="2438280"/>
            </a:xfrm>
          </p:grpSpPr>
          <p:sp>
            <p:nvSpPr>
              <p:cNvPr id="50" name="Rectangle 5"/>
              <p:cNvSpPr/>
              <p:nvPr/>
            </p:nvSpPr>
            <p:spPr>
              <a:xfrm>
                <a:off x="990720" y="3505320"/>
                <a:ext cx="7772400" cy="24382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6"/>
              <p:cNvSpPr/>
              <p:nvPr/>
            </p:nvSpPr>
            <p:spPr>
              <a:xfrm>
                <a:off x="1038240" y="3733920"/>
                <a:ext cx="7648560" cy="2138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Line 7"/>
              <p:cNvSpPr/>
              <p:nvPr/>
            </p:nvSpPr>
            <p:spPr>
              <a:xfrm>
                <a:off x="0" y="4876920"/>
                <a:ext cx="990720" cy="0"/>
              </a:xfrm>
              <a:prstGeom prst="line">
                <a:avLst/>
              </a:prstGeom>
              <a:ln w="507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Group 8"/>
            <p:cNvGrpSpPr/>
            <p:nvPr/>
          </p:nvGrpSpPr>
          <p:grpSpPr>
            <a:xfrm>
              <a:off x="635040" y="533520"/>
              <a:ext cx="8077320" cy="304560"/>
              <a:chOff x="635040" y="533520"/>
              <a:chExt cx="8077320" cy="304560"/>
            </a:xfrm>
          </p:grpSpPr>
          <p:sp>
            <p:nvSpPr>
              <p:cNvPr id="54" name="Rectangle 9"/>
              <p:cNvSpPr/>
              <p:nvPr/>
            </p:nvSpPr>
            <p:spPr>
              <a:xfrm>
                <a:off x="6273720" y="533520"/>
                <a:ext cx="2438640" cy="30456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Line 10"/>
              <p:cNvSpPr/>
              <p:nvPr/>
            </p:nvSpPr>
            <p:spPr>
              <a:xfrm>
                <a:off x="635040" y="685800"/>
                <a:ext cx="8077320" cy="0"/>
              </a:xfrm>
              <a:prstGeom prst="line">
                <a:avLst/>
              </a:prstGeom>
              <a:ln w="4428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60033"/>
                </a:solidFill>
                <a:latin typeface="Times New Roman"/>
              </a:rPr>
              <a:t>Click to edit the title text format</a:t>
            </a:r>
            <a:endParaRPr b="0" lang="en-US" sz="4200" spc="-1" strike="noStrike">
              <a:solidFill>
                <a:srgbClr val="660033"/>
              </a:solidFill>
              <a:latin typeface="Times New Roman"/>
            </a:endParaRPr>
          </a:p>
        </p:txBody>
      </p:sp>
      <p:sp>
        <p:nvSpPr>
          <p:cNvPr id="57"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cccc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95a3d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95a3d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8" name="PlaceHolder 3"/>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4"/>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5"/>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5B25F-ADDF-469A-AC05-80816ABAE1C9}" type="slidenum">
              <a:rPr b="0" lang="el-GR"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057040" y="1143000"/>
            <a:ext cx="6629400" cy="220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800" spc="-1" strike="noStrike">
                <a:solidFill>
                  <a:srgbClr val="660033"/>
                </a:solidFill>
                <a:latin typeface="Times New Roman"/>
              </a:rPr>
              <a:t>Κεφάλαιο 1</a:t>
            </a:r>
            <a:r>
              <a:rPr b="0" lang="en-US" sz="4800" spc="-1" strike="noStrike">
                <a:solidFill>
                  <a:srgbClr val="660033"/>
                </a:solidFill>
                <a:latin typeface="Times New Roman"/>
              </a:rPr>
              <a:t>5</a:t>
            </a:r>
            <a:endParaRPr b="0" lang="en-US" sz="4800" spc="-1" strike="noStrike">
              <a:solidFill>
                <a:srgbClr val="660033"/>
              </a:solidFill>
              <a:latin typeface="Times New Roman"/>
            </a:endParaRPr>
          </a:p>
        </p:txBody>
      </p:sp>
      <p:sp>
        <p:nvSpPr>
          <p:cNvPr id="105" name="PlaceHolder 2"/>
          <p:cNvSpPr>
            <a:spLocks noGrp="1"/>
          </p:cNvSpPr>
          <p:nvPr>
            <p:ph type="subTitle"/>
          </p:nvPr>
        </p:nvSpPr>
        <p:spPr>
          <a:xfrm>
            <a:off x="1371600" y="3962160"/>
            <a:ext cx="6858000" cy="1600200"/>
          </a:xfrm>
          <a:prstGeom prst="rect">
            <a:avLst/>
          </a:prstGeom>
          <a:noFill/>
          <a:ln w="0">
            <a:noFill/>
          </a:ln>
        </p:spPr>
        <p:txBody>
          <a:bodyPr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Νομοθετικά σώματα</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Διαβούλευση</a:t>
            </a:r>
            <a:endParaRPr b="0" lang="en-US" sz="4200" spc="-1" strike="noStrike">
              <a:solidFill>
                <a:srgbClr val="660033"/>
              </a:solidFill>
              <a:latin typeface="Times New Roman"/>
            </a:endParaRPr>
          </a:p>
        </p:txBody>
      </p:sp>
      <p:sp>
        <p:nvSpPr>
          <p:cNvPr id="124" name=""/>
          <p:cNvSpPr txBox="1"/>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Σε ένα πλειοψηφιοκρατικό κοινοβούλιο (debating legislature), όπως η βρετανική Βουλή των Κοινοτήτων, η κύρια δραστηριότητα είναι ο κοινοβουλευτικός διάλογος στην ολομέλεια. Εκεί εξετάζονται τα μείζονα ζητήματα και τα κόμματα κερδίζουν ή χάνουν έδαφος.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Διαβούλευση</a:t>
            </a:r>
            <a:endParaRPr b="0" lang="en-US" sz="4200" spc="-1" strike="noStrike">
              <a:solidFill>
                <a:srgbClr val="660033"/>
              </a:solidFill>
              <a:latin typeface="Times New Roman"/>
            </a:endParaRPr>
          </a:p>
        </p:txBody>
      </p:sp>
      <p:sp>
        <p:nvSpPr>
          <p:cNvPr id="126" name=""/>
          <p:cNvSpPr txBox="1"/>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Αντίθετα, σε ένα διαβουλευτικό κοινοβούλιο (committee-based legislature), όπως το αμερικανικό Κογκρέσο, η περισσότερη δουλειά γίνεται σε επίπεδο επιτροπών. Εκεί τα μέλη τους ασχολούνται με την εξειδικευμένη μετατροπή των νομοσχεδίων σε νόμους, διενεργούν ακροάσεις και ελέγχουν την εκτελεστική εξουσία.</a:t>
            </a:r>
            <a:endParaRPr b="0" lang="en-US" sz="2800" spc="-1" strike="noStrike">
              <a:solidFill>
                <a:srgbClr val="000000"/>
              </a:solidFill>
              <a:latin typeface="Arial"/>
            </a:endParaRPr>
          </a:p>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Νομοθεσία</a:t>
            </a:r>
            <a:endParaRPr b="0" lang="en-US" sz="4200" spc="-1" strike="noStrike">
              <a:solidFill>
                <a:srgbClr val="660033"/>
              </a:solidFill>
              <a:latin typeface="Times New Roman"/>
            </a:endParaRPr>
          </a:p>
        </p:txBody>
      </p:sp>
      <p:sp>
        <p:nvSpPr>
          <p:cNvPr id="128" name=""/>
          <p:cNvSpPr txBox="1"/>
          <p:nvPr/>
        </p:nvSpPr>
        <p:spPr>
          <a:xfrm>
            <a:off x="685800" y="1599840"/>
            <a:ext cx="2666880" cy="1143000"/>
          </a:xfrm>
          <a:prstGeom prst="rect">
            <a:avLst/>
          </a:prstGeom>
          <a:noFill/>
          <a:ln w="0">
            <a:noFill/>
          </a:ln>
        </p:spPr>
        <p:txBody>
          <a:bodyPr anchor="t">
            <a:normAutofit fontScale="92000"/>
          </a:bodyPr>
          <a:p>
            <a:pPr marL="315360" indent="-315360">
              <a:spcBef>
                <a:spcPts val="499"/>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Σχήμα 15.2: Η συνήθης νομοθετική διαδικασία</a:t>
            </a:r>
            <a:endParaRPr b="0" lang="en-US" sz="2000" spc="-1" strike="noStrike">
              <a:solidFill>
                <a:srgbClr val="000000"/>
              </a:solidFill>
              <a:latin typeface="Arial"/>
            </a:endParaRPr>
          </a:p>
        </p:txBody>
      </p:sp>
      <p:pic>
        <p:nvPicPr>
          <p:cNvPr id="129" name="Picture 2" descr="C:\Users\EPIMELEIA\Dropbox\Kritiki-Book-Proofing\14-sigritiki-politiki-hague\images\Hag_Fig_15_02.png"/>
          <p:cNvPicPr/>
          <p:nvPr/>
        </p:nvPicPr>
        <p:blipFill>
          <a:blip r:embed="rId1"/>
          <a:stretch/>
        </p:blipFill>
        <p:spPr>
          <a:xfrm>
            <a:off x="3048120" y="1576440"/>
            <a:ext cx="3429000" cy="52052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Έγκριση δαπανών</a:t>
            </a:r>
            <a:endParaRPr b="0" lang="en-US" sz="4200" spc="-1" strike="noStrike">
              <a:solidFill>
                <a:srgbClr val="660033"/>
              </a:solidFill>
              <a:latin typeface="Times New Roman"/>
            </a:endParaRPr>
          </a:p>
        </p:txBody>
      </p:sp>
      <p:sp>
        <p:nvSpPr>
          <p:cNvPr id="131" name=""/>
          <p:cNvSpPr txBox="1"/>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Ανακλητός προϋπολογισμός (reversionary budget) είναι ο προϋπολογισμός (κατά κανόνα περασμένου έτους) που τίθεται σε ισχύ εάν το νομοθετικό σώμα δεν ψηφίσει εγκαίρως νέο προϋπολογισμό.</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Έλεγχος</a:t>
            </a:r>
            <a:endParaRPr b="0" lang="en-US" sz="4200" spc="-1" strike="noStrike">
              <a:solidFill>
                <a:srgbClr val="660033"/>
              </a:solidFill>
              <a:latin typeface="Times New Roman"/>
            </a:endParaRPr>
          </a:p>
        </p:txBody>
      </p:sp>
      <p:sp>
        <p:nvSpPr>
          <p:cNvPr id="133" name=""/>
          <p:cNvSpPr txBox="1"/>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Τεχνικές ελέγχου της εκτελεστικής εξουσίας:</a:t>
            </a:r>
            <a:endParaRPr b="0" lang="en-US" sz="2800" spc="-1" strike="noStrike">
              <a:solidFill>
                <a:srgbClr val="000000"/>
              </a:solidFill>
              <a:latin typeface="Arial"/>
            </a:endParaRPr>
          </a:p>
          <a:p>
            <a:pPr lvl="1" marL="743040" indent="-285840">
              <a:spcBef>
                <a:spcPts val="64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Ερωτήσεις και επερωτήσεις στην ολομέλεια</a:t>
            </a:r>
            <a:endParaRPr b="0" lang="en-US" sz="2600" spc="-1" strike="noStrike">
              <a:solidFill>
                <a:srgbClr val="000000"/>
              </a:solidFill>
              <a:latin typeface="Arial"/>
            </a:endParaRPr>
          </a:p>
          <a:p>
            <a:pPr lvl="1" marL="743040" indent="-285840">
              <a:spcBef>
                <a:spcPts val="64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Έκτακτες συζητήσεις και ψήφοι εμπιστοσύνης</a:t>
            </a:r>
            <a:endParaRPr b="0" lang="en-US" sz="2600" spc="-1" strike="noStrike">
              <a:solidFill>
                <a:srgbClr val="000000"/>
              </a:solidFill>
              <a:latin typeface="Arial"/>
            </a:endParaRPr>
          </a:p>
          <a:p>
            <a:pPr lvl="1" marL="743040" indent="-285840">
              <a:spcBef>
                <a:spcPts val="64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Εξεταστικές επιτροπές</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Έλεγχος</a:t>
            </a:r>
            <a:endParaRPr b="0" lang="en-US" sz="4200" spc="-1" strike="noStrike">
              <a:solidFill>
                <a:srgbClr val="660033"/>
              </a:solidFill>
              <a:latin typeface="Times New Roman"/>
            </a:endParaRPr>
          </a:p>
        </p:txBody>
      </p:sp>
      <p:sp>
        <p:nvSpPr>
          <p:cNvPr id="135" name=""/>
          <p:cNvSpPr txBox="1"/>
          <p:nvPr/>
        </p:nvSpPr>
        <p:spPr>
          <a:xfrm>
            <a:off x="914400" y="1599840"/>
            <a:ext cx="7772400" cy="4530600"/>
          </a:xfrm>
          <a:prstGeom prst="rect">
            <a:avLst/>
          </a:prstGeom>
          <a:noFill/>
          <a:ln w="0">
            <a:noFill/>
          </a:ln>
        </p:spPr>
        <p:txBody>
          <a:bodyPr anchor="t">
            <a:normAutofit/>
          </a:bodyPr>
          <a:p>
            <a:pPr marL="343080" indent="-343080">
              <a:spcBef>
                <a:spcPts val="649"/>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Οι ερωτήσεις (questions) απευθύνουν συγκεκριμένα ερωτήματα στους καθ' ύλην αρμόδιους υπουργούς. </a:t>
            </a:r>
            <a:endParaRPr b="0" lang="en-US" sz="2600" spc="-1" strike="noStrike">
              <a:solidFill>
                <a:srgbClr val="000000"/>
              </a:solidFill>
              <a:latin typeface="Arial"/>
            </a:endParaRPr>
          </a:p>
          <a:p>
            <a:pPr marL="343080" indent="-343080">
              <a:spcBef>
                <a:spcPts val="649"/>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Η επερώτηση (interpellation) είναι μορφή ερώτησης την οποία απευθύνει η αντιπολίτευση στην κυβέρνηση. Ακολουθεί κοινοβουλευτικός διάλογος και στη συνέχεια ψηφοφορία μεταξύ των βουλευτών, οι οποίοι αποφασίζουν για το κατά πόσο το κοινοβούλιο έμεινε ικανοποιημένο από τις απαντήσεις που δόθηκαν.</a:t>
            </a:r>
            <a:endParaRPr b="0" lang="en-US" sz="2600" spc="-1" strike="noStrike">
              <a:solidFill>
                <a:srgbClr val="000000"/>
              </a:solidFill>
              <a:latin typeface="Arial"/>
            </a:endParaRPr>
          </a:p>
          <a:p>
            <a:pPr marL="343080" indent="-343080">
              <a:spcBef>
                <a:spcPts val="649"/>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Επιτροπές</a:t>
            </a:r>
            <a:endParaRPr b="0" lang="en-US" sz="4200" spc="-1" strike="noStrike">
              <a:solidFill>
                <a:srgbClr val="660033"/>
              </a:solidFill>
              <a:latin typeface="Times New Roman"/>
            </a:endParaRPr>
          </a:p>
        </p:txBody>
      </p:sp>
      <p:pic>
        <p:nvPicPr>
          <p:cNvPr id="137" name="Picture 2" descr=""/>
          <p:cNvPicPr/>
          <p:nvPr/>
        </p:nvPicPr>
        <p:blipFill>
          <a:blip r:embed="rId1"/>
          <a:stretch/>
        </p:blipFill>
        <p:spPr>
          <a:xfrm>
            <a:off x="1219320" y="1735200"/>
            <a:ext cx="7132680" cy="4132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Στελέχωση</a:t>
            </a:r>
            <a:endParaRPr b="0" lang="en-US" sz="4200" spc="-1" strike="noStrike">
              <a:solidFill>
                <a:srgbClr val="660033"/>
              </a:solidFill>
              <a:latin typeface="Times New Roman"/>
            </a:endParaRPr>
          </a:p>
        </p:txBody>
      </p:sp>
      <p:sp>
        <p:nvSpPr>
          <p:cNvPr id="139" name=""/>
          <p:cNvSpPr txBox="1"/>
          <p:nvPr/>
        </p:nvSpPr>
        <p:spPr>
          <a:xfrm>
            <a:off x="914400" y="1599840"/>
            <a:ext cx="7772400" cy="4530600"/>
          </a:xfrm>
          <a:prstGeom prst="rect">
            <a:avLst/>
          </a:prstGeom>
          <a:noFill/>
          <a:ln w="0">
            <a:noFill/>
          </a:ln>
        </p:spPr>
        <p:txBody>
          <a:bodyPr anchor="t">
            <a:normAutofit/>
          </a:bodyPr>
          <a:p>
            <a:pPr marL="343080" indent="-343080">
              <a:spcBef>
                <a:spcPts val="649"/>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Σύμφωνα με τη διάσημη διάκριση που έκανε ο Weber (1918), οι πολιτικοί καριέρας (professional politicians) ζουν από, και όχι μόνο για, την πολιτική. Πρόκειται για ανθρώπους που βλέπουν την πολιτική ως πλήρη απασχόληση και προσδοκούν από αυτήν εισόδημα, υποστήριξη, ιεραρχική ανέλιξη και συνταξιοδότηση. </a:t>
            </a:r>
            <a:endParaRPr b="0" lang="en-US" sz="2600" spc="-1" strike="noStrike">
              <a:solidFill>
                <a:srgbClr val="000000"/>
              </a:solidFill>
              <a:latin typeface="Arial"/>
            </a:endParaRPr>
          </a:p>
          <a:p>
            <a:pPr marL="343080" indent="-343080">
              <a:spcBef>
                <a:spcPts val="649"/>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Στελέχωση</a:t>
            </a:r>
            <a:endParaRPr b="0" lang="en-US" sz="4200" spc="-1" strike="noStrike">
              <a:solidFill>
                <a:srgbClr val="660033"/>
              </a:solidFill>
              <a:latin typeface="Times New Roman"/>
            </a:endParaRPr>
          </a:p>
        </p:txBody>
      </p:sp>
      <p:sp>
        <p:nvSpPr>
          <p:cNvPr id="141" name=""/>
          <p:cNvSpPr txBox="1"/>
          <p:nvPr/>
        </p:nvSpPr>
        <p:spPr>
          <a:xfrm>
            <a:off x="914400" y="1599840"/>
            <a:ext cx="7772400" cy="4530600"/>
          </a:xfrm>
          <a:prstGeom prst="rect">
            <a:avLst/>
          </a:prstGeom>
          <a:noFill/>
          <a:ln w="0">
            <a:noFill/>
          </a:ln>
        </p:spPr>
        <p:txBody>
          <a:bodyPr anchor="t">
            <a:normAutofit/>
          </a:bodyPr>
          <a:p>
            <a:pPr marL="343080" indent="-343080">
              <a:spcBef>
                <a:spcPts val="649"/>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Καμιά φορά λέγεται ότι οι πολιτικοί καριέρας σχηματίζουν μια πολιτική τάξη (political class), όρος που υποδηλώνει την ύπαρξη μιας ομάδας που διαθέτει και συχνά ενεργεί με βάση κοινά συμφέροντα. </a:t>
            </a:r>
            <a:endParaRPr b="0" lang="en-US" sz="2600" spc="-1" strike="noStrike">
              <a:solidFill>
                <a:srgbClr val="000000"/>
              </a:solidFill>
              <a:latin typeface="Arial"/>
            </a:endParaRPr>
          </a:p>
          <a:p>
            <a:pPr lvl="1" marL="743040" indent="-2858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Mosca, 1896</a:t>
            </a:r>
            <a:endParaRPr b="0" lang="en-US" sz="2400" spc="-1" strike="noStrike">
              <a:solidFill>
                <a:srgbClr val="000000"/>
              </a:solidFill>
              <a:latin typeface="Arial"/>
            </a:endParaRPr>
          </a:p>
          <a:p>
            <a:pPr marL="343080" indent="-343080">
              <a:spcBef>
                <a:spcPts val="601"/>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Στελέχωση</a:t>
            </a:r>
            <a:endParaRPr b="0" lang="en-US" sz="4200" spc="-1" strike="noStrike">
              <a:solidFill>
                <a:srgbClr val="660033"/>
              </a:solidFill>
              <a:latin typeface="Times New Roman"/>
            </a:endParaRPr>
          </a:p>
        </p:txBody>
      </p:sp>
      <p:sp>
        <p:nvSpPr>
          <p:cNvPr id="143" name=""/>
          <p:cNvSpPr txBox="1"/>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Το πλεονέκτημα του κατέχοντος το αξίωμα (incumbency effect) αναφέρεται στο εκλογικό πλεονέκτημα που αποκτούν τα νυν μέλη ενός κοινοβουλίου όταν είναι ξανά υποψήφια. </a:t>
            </a:r>
            <a:endParaRPr b="0" lang="en-US" sz="2800" spc="-1" strike="noStrike">
              <a:solidFill>
                <a:srgbClr val="000000"/>
              </a:solidFill>
              <a:latin typeface="Arial"/>
            </a:endParaRPr>
          </a:p>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Ορισμός</a:t>
            </a:r>
            <a:endParaRPr b="0" lang="en-US" sz="4200" spc="-1" strike="noStrike">
              <a:solidFill>
                <a:srgbClr val="660033"/>
              </a:solidFill>
              <a:latin typeface="Times New Roman"/>
            </a:endParaRPr>
          </a:p>
        </p:txBody>
      </p:sp>
      <p:sp>
        <p:nvSpPr>
          <p:cNvPr id="107" name=""/>
          <p:cNvSpPr txBox="1"/>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Νομοθετικό σώμα (legislature) είναι ένα πολυμελές αντιπροσωπευτικό όργανο, το οποίο διαβουλεύεται επί των δημόσιων ζητημάτων και καταλήγει σε δεσμευτικές δημόσιες πολιτικές αποφάσεις για λογαριασμό μιας πολιτικής κοινότητας που υπερβαίνει την εκτελεστική εξουσία.</a:t>
            </a:r>
            <a:endParaRPr b="0" lang="en-US" sz="2800" spc="-1" strike="noStrike">
              <a:solidFill>
                <a:srgbClr val="000000"/>
              </a:solidFill>
              <a:latin typeface="Arial"/>
            </a:endParaRPr>
          </a:p>
          <a:p>
            <a:pPr marL="343080" indent="-34308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Norton, 1990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Στελέχωση</a:t>
            </a:r>
            <a:endParaRPr b="0" lang="en-US" sz="4200" spc="-1" strike="noStrike">
              <a:solidFill>
                <a:srgbClr val="660033"/>
              </a:solidFill>
              <a:latin typeface="Times New Roman"/>
            </a:endParaRPr>
          </a:p>
        </p:txBody>
      </p:sp>
      <p:sp>
        <p:nvSpPr>
          <p:cNvPr id="145" name=""/>
          <p:cNvSpPr txBox="1"/>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Τα όρια θητείας (term limits) επιβάλλουν στους εκλεγμένους πολιτικούς συγκεκριμένο αριθμό θητειών που μπορούν να υπηρετήσουν ή  απαγορεύουν την επανεκλογή τους εάν δεν έχει μεσολαβήσει μια περίοδος. Επιβάλλουν την ανανέωση των σωμάτων με τίμημα τον μειωμένο επαγγελματισμό.</a:t>
            </a:r>
            <a:endParaRPr b="0" lang="en-US" sz="2800" spc="-1" strike="noStrike">
              <a:solidFill>
                <a:srgbClr val="000000"/>
              </a:solidFill>
              <a:latin typeface="Arial"/>
            </a:endParaRPr>
          </a:p>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Στελέχωση</a:t>
            </a:r>
            <a:endParaRPr b="0" lang="en-US" sz="4200" spc="-1" strike="noStrike">
              <a:solidFill>
                <a:srgbClr val="660033"/>
              </a:solidFill>
              <a:latin typeface="Times New Roman"/>
            </a:endParaRPr>
          </a:p>
        </p:txBody>
      </p:sp>
      <p:sp>
        <p:nvSpPr>
          <p:cNvPr id="147" name=""/>
          <p:cNvSpPr txBox="1"/>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Οι διασημότητες που πέρασαν στην πολιτική (celebrities-turned-politicians) εκμεταλλεύονται τη φήμη που απέκτησαν σε άλλους τομείς δραστηριότητας εκτός πολιτικής, για να διευκολύνουν το πέρασμά τους σε πολιτικά αξιώματα και βουλευτικές έδρες. </a:t>
            </a:r>
            <a:endParaRPr b="0" lang="en-US" sz="2800" spc="-1" strike="noStrike">
              <a:solidFill>
                <a:srgbClr val="000000"/>
              </a:solidFill>
              <a:latin typeface="Arial"/>
            </a:endParaRPr>
          </a:p>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Στελέχωση</a:t>
            </a:r>
            <a:endParaRPr b="0" lang="en-US" sz="4200" spc="-1" strike="noStrike">
              <a:solidFill>
                <a:srgbClr val="660033"/>
              </a:solidFill>
              <a:latin typeface="Times New Roman"/>
            </a:endParaRPr>
          </a:p>
        </p:txBody>
      </p:sp>
      <p:sp>
        <p:nvSpPr>
          <p:cNvPr id="149" name=""/>
          <p:cNvSpPr txBox="1"/>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Η ομάδα αυτή διαφοροποιείται από τους πολιτικούς ως διασημότητες (politicians-as-celebrities), οι οποίοι προβάλλονται στους ψηφοφόρους σαν διάσημοι σταρ του θεάτρου ή του κινηματογράφο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660033"/>
                </a:solidFill>
                <a:latin typeface="Times New Roman"/>
              </a:rPr>
              <a:t>Τα κοινοβούλια </a:t>
            </a:r>
            <a:br>
              <a:rPr sz="4000"/>
            </a:br>
            <a:r>
              <a:rPr b="0" lang="el-GR" sz="4000" spc="-1" strike="noStrike">
                <a:solidFill>
                  <a:srgbClr val="660033"/>
                </a:solidFill>
                <a:latin typeface="Times New Roman"/>
              </a:rPr>
              <a:t>στα απολυταρχικά κράτη</a:t>
            </a:r>
            <a:endParaRPr b="0" lang="en-US" sz="4000" spc="-1" strike="noStrike">
              <a:solidFill>
                <a:srgbClr val="660033"/>
              </a:solidFill>
              <a:latin typeface="Times New Roman"/>
            </a:endParaRPr>
          </a:p>
        </p:txBody>
      </p:sp>
      <p:sp>
        <p:nvSpPr>
          <p:cNvPr id="151" name=""/>
          <p:cNvSpPr txBox="1"/>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Περιορισμένος ρόλος – λειτουργούν ως σκιώδεις θεσμοί</a:t>
            </a:r>
            <a:endParaRPr b="0" lang="en-US" sz="2800" spc="-1" strike="noStrike">
              <a:solidFill>
                <a:srgbClr val="000000"/>
              </a:solidFill>
              <a:latin typeface="Arial"/>
            </a:endParaRPr>
          </a:p>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Απευθείας διορισμός από την κυβέρνηση</a:t>
            </a:r>
            <a:endParaRPr b="0" lang="en-US" sz="2800" spc="-1" strike="noStrike">
              <a:solidFill>
                <a:srgbClr val="000000"/>
              </a:solidFill>
              <a:latin typeface="Arial"/>
            </a:endParaRPr>
          </a:p>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Διατύπωση αιτημάτω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660033"/>
                </a:solidFill>
                <a:latin typeface="Times New Roman"/>
              </a:rPr>
              <a:t>Τα κοινοβούλια </a:t>
            </a:r>
            <a:br>
              <a:rPr sz="4400"/>
            </a:br>
            <a:r>
              <a:rPr b="0" lang="el-GR" sz="4400" spc="-1" strike="noStrike">
                <a:solidFill>
                  <a:srgbClr val="660033"/>
                </a:solidFill>
                <a:latin typeface="Times New Roman"/>
              </a:rPr>
              <a:t>στα απολυταρχικά κράτη</a:t>
            </a:r>
            <a:endParaRPr b="0" lang="en-US" sz="4400" spc="-1" strike="noStrike">
              <a:solidFill>
                <a:srgbClr val="660033"/>
              </a:solidFill>
              <a:latin typeface="Times New Roman"/>
            </a:endParaRPr>
          </a:p>
        </p:txBody>
      </p:sp>
      <p:sp>
        <p:nvSpPr>
          <p:cNvPr id="153" name=""/>
          <p:cNvSpPr txBox="1"/>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Ο ρόλος των κοινοβουλίων στα απολυταρχικά κράτη:</a:t>
            </a:r>
            <a:endParaRPr b="0" lang="en-US" sz="2800" spc="-1" strike="noStrike">
              <a:solidFill>
                <a:srgbClr val="000000"/>
              </a:solidFill>
              <a:latin typeface="Arial"/>
            </a:endParaRPr>
          </a:p>
          <a:p>
            <a:pPr lvl="1" marL="743040" indent="-285840">
              <a:spcBef>
                <a:spcPts val="64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Προσφέρουν φύλλο συκής στην εσωτερική και διεθνή νομιμοποίηση του καθεστώτος </a:t>
            </a:r>
            <a:endParaRPr b="0" lang="en-US" sz="2600" spc="-1" strike="noStrike">
              <a:solidFill>
                <a:srgbClr val="000000"/>
              </a:solidFill>
              <a:latin typeface="Arial"/>
            </a:endParaRPr>
          </a:p>
          <a:p>
            <a:pPr lvl="1" marL="743040" indent="-285840">
              <a:spcBef>
                <a:spcPts val="64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Εξυπηρετούν την ένταξη μετριοπαθών αντιφρονούντων στο σύστημα του καθεστώτος</a:t>
            </a:r>
            <a:endParaRPr b="0" lang="en-US" sz="2600" spc="-1" strike="noStrike">
              <a:solidFill>
                <a:srgbClr val="000000"/>
              </a:solidFill>
              <a:latin typeface="Arial"/>
            </a:endParaRPr>
          </a:p>
          <a:p>
            <a:pPr lvl="1" marL="743040" indent="-285840">
              <a:spcBef>
                <a:spcPts val="64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Εξασφαλίζουν ένα μέτρο ενσωμάτωσης κέντρου και περιφέρειας, κράτους και κοινωνία</a:t>
            </a:r>
            <a:endParaRPr b="0" lang="en-US" sz="2600" spc="-1" strike="noStrike">
              <a:solidFill>
                <a:srgbClr val="000000"/>
              </a:solidFill>
              <a:latin typeface="Arial"/>
            </a:endParaRPr>
          </a:p>
          <a:p>
            <a:pPr lvl="1" marL="743040" indent="-285840">
              <a:spcBef>
                <a:spcPts val="64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Λειτουργούν ως χρήσιμη πηγή άντλησης στελεχών για την πολιτική ελίτ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660033"/>
                </a:solidFill>
                <a:latin typeface="Times New Roman"/>
              </a:rPr>
              <a:t>Τα κοινοβούλια </a:t>
            </a:r>
            <a:br>
              <a:rPr sz="4000"/>
            </a:br>
            <a:r>
              <a:rPr b="0" lang="el-GR" sz="4000" spc="-1" strike="noStrike">
                <a:solidFill>
                  <a:srgbClr val="660033"/>
                </a:solidFill>
                <a:latin typeface="Times New Roman"/>
              </a:rPr>
              <a:t>στις ανελεύθερες δημοκρατίες</a:t>
            </a:r>
            <a:endParaRPr b="0" lang="en-US" sz="4000" spc="-1" strike="noStrike">
              <a:solidFill>
                <a:srgbClr val="660033"/>
              </a:solidFill>
              <a:latin typeface="Times New Roman"/>
            </a:endParaRPr>
          </a:p>
        </p:txBody>
      </p:sp>
      <p:sp>
        <p:nvSpPr>
          <p:cNvPr id="155" name=""/>
          <p:cNvSpPr txBox="1"/>
          <p:nvPr/>
        </p:nvSpPr>
        <p:spPr>
          <a:xfrm>
            <a:off x="914400" y="1599840"/>
            <a:ext cx="7772400" cy="4530600"/>
          </a:xfrm>
          <a:prstGeom prst="rect">
            <a:avLst/>
          </a:prstGeom>
          <a:noFill/>
          <a:ln w="0">
            <a:noFill/>
          </a:ln>
        </p:spPr>
        <p:txBody>
          <a:bodyPr anchor="t">
            <a:normAutofit/>
          </a:bodyPr>
          <a:p>
            <a:pPr marL="343080" indent="-343080">
              <a:spcBef>
                <a:spcPts val="649"/>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Τα νομοθετικά σώματα αποτελούν στοιχείο της θεσμικής διευθέτησης</a:t>
            </a:r>
            <a:endParaRPr b="0" lang="en-US" sz="2600" spc="-1" strike="noStrike">
              <a:solidFill>
                <a:srgbClr val="000000"/>
              </a:solidFill>
              <a:latin typeface="Arial"/>
            </a:endParaRPr>
          </a:p>
          <a:p>
            <a:pPr marL="343080" indent="-343080">
              <a:spcBef>
                <a:spcPts val="649"/>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Η πολιτική τους θέση μπορεί να είναι σημαντική σε τομείς που δεν απειλούν την προεδρική ηγεσία</a:t>
            </a:r>
            <a:endParaRPr b="0" lang="en-US" sz="2600" spc="-1" strike="noStrike">
              <a:solidFill>
                <a:srgbClr val="000000"/>
              </a:solidFill>
              <a:latin typeface="Arial"/>
            </a:endParaRPr>
          </a:p>
          <a:p>
            <a:pPr marL="343080" indent="-343080">
              <a:spcBef>
                <a:spcPts val="649"/>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Λειτουργούν στη σκιά της εκτελεστικής εξουσίας</a:t>
            </a:r>
            <a:endParaRPr b="0" lang="en-US" sz="2600" spc="-1" strike="noStrike">
              <a:solidFill>
                <a:srgbClr val="000000"/>
              </a:solidFill>
              <a:latin typeface="Arial"/>
            </a:endParaRPr>
          </a:p>
          <a:p>
            <a:pPr marL="343080" indent="-343080">
              <a:spcBef>
                <a:spcPts val="649"/>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Δεν ασκούν έλεγχο στην κυβέρνηση</a:t>
            </a:r>
            <a:endParaRPr b="0" lang="en-US" sz="2600" spc="-1" strike="noStrike">
              <a:solidFill>
                <a:srgbClr val="000000"/>
              </a:solidFill>
              <a:latin typeface="Arial"/>
            </a:endParaRPr>
          </a:p>
          <a:p>
            <a:pPr marL="343080" indent="-343080">
              <a:spcBef>
                <a:spcPts val="649"/>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Δεν αποτελούν επαγγελματικά κοινοβούλια με σταθερή σύνθεση</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4 - TextBox"/>
          <p:cNvSpPr/>
          <p:nvPr/>
        </p:nvSpPr>
        <p:spPr>
          <a:xfrm>
            <a:off x="1295280" y="2328840"/>
            <a:ext cx="7010640" cy="1922760"/>
          </a:xfrm>
          <a:prstGeom prst="rect">
            <a:avLst/>
          </a:prstGeom>
          <a:noFill/>
          <a:ln w="9360">
            <a:solidFill>
              <a:srgbClr val="d3d31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alibri"/>
                <a:ea typeface="Calibri"/>
              </a:rPr>
              <a:t>Απαγορεύεται η αναδημοσίευση ή αναπαραγωγή του παρόντος έργου με οποιονδήποτε τρόπο χωρίς γραπτή άδεια του εκδότη, σύμφωνα με το Ν. 2121/1993 και τη Διεθνή Σύμβαση της Βέρνης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alibri"/>
                <a:ea typeface="Calibri"/>
              </a:rPr>
              <a:t>(που έχει κυρωθεί με τον Ν. 100/1975)</a:t>
            </a:r>
            <a:endParaRPr b="0"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Δομή</a:t>
            </a:r>
            <a:endParaRPr b="0" lang="en-US" sz="4200" spc="-1" strike="noStrike">
              <a:solidFill>
                <a:srgbClr val="660033"/>
              </a:solidFill>
              <a:latin typeface="Times New Roman"/>
            </a:endParaRPr>
          </a:p>
        </p:txBody>
      </p:sp>
      <p:sp>
        <p:nvSpPr>
          <p:cNvPr id="109" name=""/>
          <p:cNvSpPr txBox="1"/>
          <p:nvPr/>
        </p:nvSpPr>
        <p:spPr>
          <a:xfrm>
            <a:off x="914400" y="1600200"/>
            <a:ext cx="7772400" cy="457200"/>
          </a:xfrm>
          <a:prstGeom prst="rect">
            <a:avLst/>
          </a:prstGeom>
          <a:noFill/>
          <a:ln w="0">
            <a:noFill/>
          </a:ln>
        </p:spPr>
        <p:txBody>
          <a:bodyPr anchor="t">
            <a:normAutofit/>
          </a:bodyPr>
          <a:p>
            <a:pPr marL="343080" indent="-343080">
              <a:spcBef>
                <a:spcPts val="499"/>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Σχήμα 15.1: Πληθυσμός και μέγεθος του κοινοβουλίου, 2009</a:t>
            </a:r>
            <a:endParaRPr b="0" lang="en-US" sz="2000" spc="-1" strike="noStrike">
              <a:solidFill>
                <a:srgbClr val="000000"/>
              </a:solidFill>
              <a:latin typeface="Arial"/>
            </a:endParaRPr>
          </a:p>
        </p:txBody>
      </p:sp>
      <p:pic>
        <p:nvPicPr>
          <p:cNvPr id="110" name="Picture 3" descr="C:\Users\EPIMELEIA\Dropbox\Kritiki-Book-Proofing\14-sigritiki-politiki-hague\images\Hag_Fig_15_01.png"/>
          <p:cNvPicPr/>
          <p:nvPr/>
        </p:nvPicPr>
        <p:blipFill>
          <a:blip r:embed="rId1"/>
          <a:stretch/>
        </p:blipFill>
        <p:spPr>
          <a:xfrm>
            <a:off x="2057400" y="2133720"/>
            <a:ext cx="5592600" cy="4103640"/>
          </a:xfrm>
          <a:prstGeom prst="rect">
            <a:avLst/>
          </a:prstGeom>
          <a:ln w="9360">
            <a:solidFill>
              <a:srgbClr val="ffadd6"/>
            </a:solidFill>
            <a:miter/>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Δομή</a:t>
            </a:r>
            <a:endParaRPr b="0" lang="en-US" sz="4200" spc="-1" strike="noStrike">
              <a:solidFill>
                <a:srgbClr val="660033"/>
              </a:solidFill>
              <a:latin typeface="Times New Roman"/>
            </a:endParaRPr>
          </a:p>
        </p:txBody>
      </p:sp>
      <p:sp>
        <p:nvSpPr>
          <p:cNvPr id="112" name=""/>
          <p:cNvSpPr txBox="1"/>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Παρότι ορισμένα ευρωπαϊκά κοινοβούλια διέθεταν αρχικά πολλά νομοθετικά σώματα, ένα για καθεμία από τις κατεστημένες τάξεις, σήμερα έχουν ένα νομοθετικό σώμα (unicameral) ή δύο νομοθετικά σώματα (bicameral). </a:t>
            </a:r>
            <a:endParaRPr b="0" lang="en-US" sz="2800" spc="-1" strike="noStrike">
              <a:solidFill>
                <a:srgbClr val="000000"/>
              </a:solidFill>
              <a:latin typeface="Arial"/>
            </a:endParaRPr>
          </a:p>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Δομή</a:t>
            </a:r>
            <a:endParaRPr b="0" lang="en-US" sz="4200" spc="-1" strike="noStrike">
              <a:solidFill>
                <a:srgbClr val="660033"/>
              </a:solidFill>
              <a:latin typeface="Times New Roman"/>
            </a:endParaRPr>
          </a:p>
        </p:txBody>
      </p:sp>
      <p:sp>
        <p:nvSpPr>
          <p:cNvPr id="114" name=""/>
          <p:cNvSpPr txBox="1"/>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Σε ένα σύστημα ασθενούς κοινοβουλίου με δύο νομοθετικά σώματα (weak bicameralism) η Κάτω Βουλή είναι πολύ ισχυρότερη από την Άνω Βουλή, και αποτελεί το κυρίως σώμα προς το οποίο λογοδοτεί η κυβέρνηση. Συναντάται κατά κανόνα στα κοινοβουλευτικά συστήματα.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Δομή</a:t>
            </a:r>
            <a:endParaRPr b="0" lang="en-US" sz="4200" spc="-1" strike="noStrike">
              <a:solidFill>
                <a:srgbClr val="660033"/>
              </a:solidFill>
              <a:latin typeface="Times New Roman"/>
            </a:endParaRPr>
          </a:p>
        </p:txBody>
      </p:sp>
      <p:sp>
        <p:nvSpPr>
          <p:cNvPr id="116" name=""/>
          <p:cNvSpPr txBox="1"/>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Σε ένα σύστημα ισχυρού κοινοβουλίου με δύο νομοθετικά σώματα (strong bicameralism), το οποίο συναντάμε σε μικρό αριθμό ομοσπονδιών που εφαρμόζουν το προεδρικό σύστημα, οι εξουσίες των δύο σωμάτων είναι πιο εξισορροπημένες. </a:t>
            </a:r>
            <a:endParaRPr b="0" lang="en-US" sz="2800" spc="-1" strike="noStrike">
              <a:solidFill>
                <a:srgbClr val="000000"/>
              </a:solidFill>
              <a:latin typeface="Arial"/>
            </a:endParaRPr>
          </a:p>
          <a:p>
            <a:pPr marL="343080" indent="-34308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Lijphart, 1999</a:t>
            </a:r>
            <a:endParaRPr b="0" lang="en-US" sz="2800" spc="-1" strike="noStrike">
              <a:solidFill>
                <a:srgbClr val="000000"/>
              </a:solidFill>
              <a:latin typeface="Arial"/>
            </a:endParaRPr>
          </a:p>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Δομή</a:t>
            </a:r>
            <a:endParaRPr b="0" lang="en-US" sz="4200" spc="-1" strike="noStrike">
              <a:solidFill>
                <a:srgbClr val="660033"/>
              </a:solidFill>
              <a:latin typeface="Times New Roman"/>
            </a:endParaRPr>
          </a:p>
        </p:txBody>
      </p:sp>
      <p:sp>
        <p:nvSpPr>
          <p:cNvPr id="118" name=""/>
          <p:cNvSpPr txBox="1"/>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Εκλογή του δεύτερου νομοθετικού σώματος:</a:t>
            </a:r>
            <a:endParaRPr b="0" lang="en-US" sz="2800" spc="-1" strike="noStrike">
              <a:solidFill>
                <a:srgbClr val="000000"/>
              </a:solidFill>
              <a:latin typeface="Arial"/>
            </a:endParaRPr>
          </a:p>
          <a:p>
            <a:pPr lvl="1" marL="743040" indent="-285840">
              <a:spcBef>
                <a:spcPts val="64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Απευθείας εκλογή</a:t>
            </a:r>
            <a:endParaRPr b="0" lang="en-US" sz="2600" spc="-1" strike="noStrike">
              <a:solidFill>
                <a:srgbClr val="000000"/>
              </a:solidFill>
              <a:latin typeface="Arial"/>
            </a:endParaRPr>
          </a:p>
          <a:p>
            <a:pPr lvl="1" marL="743040" indent="-285840">
              <a:spcBef>
                <a:spcPts val="700"/>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Έμμεση εκλογή μέσω τοπικών ή περιφερειακών διοικήσεων</a:t>
            </a:r>
            <a:endParaRPr b="0" lang="en-US" sz="2800" spc="-1" strike="noStrike">
              <a:solidFill>
                <a:srgbClr val="000000"/>
              </a:solidFill>
              <a:latin typeface="Arial"/>
            </a:endParaRPr>
          </a:p>
          <a:p>
            <a:pPr lvl="1" marL="743040" indent="-285840">
              <a:spcBef>
                <a:spcPts val="700"/>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Με διορισμό, συνήθως από την κυβέρνηση </a:t>
            </a:r>
            <a:endParaRPr b="0" lang="en-US" sz="2800" spc="-1" strike="noStrike">
              <a:solidFill>
                <a:srgbClr val="000000"/>
              </a:solidFill>
              <a:latin typeface="Arial"/>
            </a:endParaRPr>
          </a:p>
          <a:p>
            <a:pPr lvl="1" marL="743040" indent="-285840">
              <a:spcBef>
                <a:spcPts val="700"/>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Λειτουργίες</a:t>
            </a:r>
            <a:endParaRPr b="0" lang="en-US" sz="4200" spc="-1" strike="noStrike">
              <a:solidFill>
                <a:srgbClr val="660033"/>
              </a:solidFill>
              <a:latin typeface="Times New Roman"/>
            </a:endParaRPr>
          </a:p>
        </p:txBody>
      </p:sp>
      <p:sp>
        <p:nvSpPr>
          <p:cNvPr id="120" name=""/>
          <p:cNvSpPr txBox="1"/>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Αντιπροσώπευση</a:t>
            </a:r>
            <a:endParaRPr b="0" lang="en-US" sz="2800" spc="-1" strike="noStrike">
              <a:solidFill>
                <a:srgbClr val="000000"/>
              </a:solidFill>
              <a:latin typeface="Arial"/>
            </a:endParaRPr>
          </a:p>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Διαβούλευση</a:t>
            </a:r>
            <a:endParaRPr b="0" lang="en-US" sz="2800" spc="-1" strike="noStrike">
              <a:solidFill>
                <a:srgbClr val="000000"/>
              </a:solidFill>
              <a:latin typeface="Arial"/>
            </a:endParaRPr>
          </a:p>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Νομοθεσία</a:t>
            </a:r>
            <a:endParaRPr b="0" lang="en-US" sz="2800" spc="-1" strike="noStrike">
              <a:solidFill>
                <a:srgbClr val="000000"/>
              </a:solidFill>
              <a:latin typeface="Arial"/>
            </a:endParaRPr>
          </a:p>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Έγκριση δαπανών</a:t>
            </a:r>
            <a:endParaRPr b="0" lang="en-US" sz="2800" spc="-1" strike="noStrike">
              <a:solidFill>
                <a:srgbClr val="000000"/>
              </a:solidFill>
              <a:latin typeface="Arial"/>
            </a:endParaRPr>
          </a:p>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Σχηματισμός κυβέρνησης</a:t>
            </a:r>
            <a:endParaRPr b="0" lang="en-US" sz="2800" spc="-1" strike="noStrike">
              <a:solidFill>
                <a:srgbClr val="000000"/>
              </a:solidFill>
              <a:latin typeface="Arial"/>
            </a:endParaRPr>
          </a:p>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Έλεγχο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Αντιπροσώπευση </a:t>
            </a:r>
            <a:endParaRPr b="0" lang="en-US" sz="4200" spc="-1" strike="noStrike">
              <a:solidFill>
                <a:srgbClr val="660033"/>
              </a:solidFill>
              <a:latin typeface="Times New Roman"/>
            </a:endParaRPr>
          </a:p>
        </p:txBody>
      </p:sp>
      <p:sp>
        <p:nvSpPr>
          <p:cNvPr id="122" name=""/>
          <p:cNvSpPr txBox="1"/>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Οι κατοχυρωμένες έδρες (reserved seats) προορίζονται αποκλειστικά για υποψηφίους που προέρχονται από συγκεκριμένη ομάδα του πληθυσμού, κατά κανόνα κάποια μειονότητα ή τις γυναίκες.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08T06:47:33Z</dcterms:created>
  <dc:creator>pc</dc:creator>
  <dc:description/>
  <dc:language>en-US</dc:language>
  <cp:lastModifiedBy>EPIMELEIA</cp:lastModifiedBy>
  <dcterms:modified xsi:type="dcterms:W3CDTF">2013-09-24T06:48:06Z</dcterms:modified>
  <cp:revision>5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